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37375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4CA-135D-4B0D-B041-7015F6A1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76D-D576-4484-9508-9F8E9762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266-AC08-4BA7-9552-8EB7446A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A09-2F2D-4D4C-BFC4-C7B91341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162-87E8-435C-9FC2-C59212B1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7ED-5E04-4FF7-B72F-98C0C8E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58E-FAAC-4A7F-B8D4-661D8913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70C-36D5-4E9C-832A-50EEECA9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9DD-E1B3-4CE9-BEC5-87DCE92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50E-59F6-4CD5-A5B4-FB5C1FC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510-B86E-442A-90DF-D38FAEB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60A-6D7E-4118-86C1-4B6E1C41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E93-C5DC-4C8A-96F0-D608F29B2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493720"/>
            <a:ext cx="69469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RN FORMATION ON MULTIPHASE DIFFUSION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83508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Morral and Yunzhi Wa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artment of Materials Science and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Ohio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bus, Ohio 43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685800"/>
            <a:ext cx="7772400" cy="5638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20240" y="1031760"/>
            <a:ext cx="34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T Diffusion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bruary 7-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71600" y="3581280"/>
            <a:ext cx="6248520" cy="76320"/>
            <a:chOff x="1371600" y="3581280"/>
            <a:chExt cx="6248520" cy="76320"/>
          </a:xfrm>
        </p:grpSpPr>
        <p:sp>
          <p:nvSpPr>
            <p:cNvPr id="46" name=""/>
            <p:cNvSpPr/>
            <p:nvPr/>
          </p:nvSpPr>
          <p:spPr>
            <a:xfrm>
              <a:off x="1371600" y="35812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00200" y="36576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76400" y="1428840"/>
            <a:ext cx="9810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ison of two numerical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60280" y="405144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Schwind, T. Heland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 Agren, Scripta Mater.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1) 415-4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257880" cy="290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76000" y="5029200"/>
            <a:ext cx="2753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Linear vari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of D with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30440" y="5032440"/>
            <a:ext cx="2823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Parabolic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Of D with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05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629400" y="2438280"/>
            <a:ext cx="2209680" cy="1219320"/>
            <a:chOff x="6629400" y="2438280"/>
            <a:chExt cx="2209680" cy="1219320"/>
          </a:xfrm>
        </p:grpSpPr>
        <p:sp>
          <p:nvSpPr>
            <p:cNvPr id="241" name=""/>
            <p:cNvSpPr/>
            <p:nvPr/>
          </p:nvSpPr>
          <p:spPr>
            <a:xfrm>
              <a:off x="7527960" y="2708280"/>
              <a:ext cx="131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6781680" y="2743200"/>
                  <a:ext cx="175284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γ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"/>
            <p:cNvSpPr/>
            <p:nvPr/>
          </p:nvSpPr>
          <p:spPr>
            <a:xfrm>
              <a:off x="6629400" y="2438280"/>
              <a:ext cx="1905120" cy="121932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5280" y="1676520"/>
            <a:ext cx="6248520" cy="75960"/>
            <a:chOff x="1295280" y="1676520"/>
            <a:chExt cx="6248520" cy="75960"/>
          </a:xfrm>
        </p:grpSpPr>
        <p:sp>
          <p:nvSpPr>
            <p:cNvPr id="245" name=""/>
            <p:cNvSpPr/>
            <p:nvPr/>
          </p:nvSpPr>
          <p:spPr>
            <a:xfrm>
              <a:off x="1295280" y="167652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23880" y="175248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60280" y="405144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Schwind, T. Heland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 Agren, Scripta Mater. 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001) 415-4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05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29400" y="2438280"/>
            <a:ext cx="2209680" cy="1219320"/>
            <a:chOff x="6629400" y="2438280"/>
            <a:chExt cx="2209680" cy="1219320"/>
          </a:xfrm>
        </p:grpSpPr>
        <p:sp>
          <p:nvSpPr>
            <p:cNvPr id="251" name=""/>
            <p:cNvSpPr/>
            <p:nvPr/>
          </p:nvSpPr>
          <p:spPr>
            <a:xfrm>
              <a:off x="7527960" y="2708280"/>
              <a:ext cx="1311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781680" y="2743200"/>
                  <a:ext cx="175284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γ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Δ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6629400" y="2438280"/>
              <a:ext cx="1905120" cy="121932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523880" y="1905120"/>
            <a:ext cx="6248520" cy="75960"/>
            <a:chOff x="1523880" y="1905120"/>
            <a:chExt cx="6248520" cy="75960"/>
          </a:xfrm>
        </p:grpSpPr>
        <p:sp>
          <p:nvSpPr>
            <p:cNvPr id="255" name=""/>
            <p:cNvSpPr/>
            <p:nvPr/>
          </p:nvSpPr>
          <p:spPr>
            <a:xfrm>
              <a:off x="1523880" y="190512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2480" y="198108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76320" y="2209680"/>
          <a:ext cx="624816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09680"/>
                    <a:ext cx="624816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5257800" y="29718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000" y="5029200"/>
            <a:ext cx="2753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Linear vari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of D with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0440" y="5046840"/>
            <a:ext cx="2823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Parabolic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Of D with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920" y="711360"/>
            <a:ext cx="866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 with no horn is smooth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osition jump at the initial interface is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tical Basis for Single Hor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tinuity equation 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95280" y="1219320"/>
            <a:ext cx="6248520" cy="75960"/>
            <a:chOff x="1295280" y="1219320"/>
            <a:chExt cx="6248520" cy="75960"/>
          </a:xfrm>
        </p:grpSpPr>
        <p:sp>
          <p:nvSpPr>
            <p:cNvPr id="265" name=""/>
            <p:cNvSpPr/>
            <p:nvPr/>
          </p:nvSpPr>
          <p:spPr>
            <a:xfrm>
              <a:off x="1295280" y="121932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3880" y="129528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041560" y="2362320"/>
                <a:ext cx="23940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15000" y="2590920"/>
            <a:ext cx="2362320" cy="1526400"/>
            <a:chOff x="5715000" y="2590920"/>
            <a:chExt cx="2362320" cy="1526400"/>
          </a:xfrm>
        </p:grpSpPr>
        <p:sp>
          <p:nvSpPr>
            <p:cNvPr id="272" name=""/>
            <p:cNvSpPr/>
            <p:nvPr/>
          </p:nvSpPr>
          <p:spPr>
            <a:xfrm>
              <a:off x="6095880" y="2590920"/>
              <a:ext cx="1067040" cy="9903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6299280" y="297180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C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5715000" y="3095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53120" y="30956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7645320" y="2833560"/>
                  <a:ext cx="4320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609588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1524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65800" y="3657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1680" y="3886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095880" y="3886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276200" y="4160880"/>
                <a:ext cx="5067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pt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905120" y="5157720"/>
                <a:ext cx="25905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</m:num>
                      <m:den>
                        <m: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10080" y="5105520"/>
                <a:ext cx="342900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tical Basis for Single Ho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423040" y="2286000"/>
                <a:ext cx="22730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</m:e>
                          <m:sup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1295280" y="1676520"/>
            <a:ext cx="6248520" cy="75960"/>
            <a:chOff x="1295280" y="1676520"/>
            <a:chExt cx="6248520" cy="75960"/>
          </a:xfrm>
        </p:grpSpPr>
        <p:sp>
          <p:nvSpPr>
            <p:cNvPr id="290" name=""/>
            <p:cNvSpPr/>
            <p:nvPr/>
          </p:nvSpPr>
          <p:spPr>
            <a:xfrm>
              <a:off x="1295280" y="167652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3880" y="175248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59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676520" y="2286000"/>
                <a:ext cx="2209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</m:num>
                      <m:den>
                        <m: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1217520" y="3429000"/>
            <a:ext cx="3202200" cy="2773440"/>
            <a:chOff x="1217520" y="3429000"/>
            <a:chExt cx="3202200" cy="277344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1217520" y="3429000"/>
              <a:ext cx="3202200" cy="277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1905120" y="4800600"/>
                  <a:ext cx="457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d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"/>
          <p:cNvGrpSpPr/>
          <p:nvPr/>
        </p:nvGrpSpPr>
        <p:grpSpPr>
          <a:xfrm>
            <a:off x="4797360" y="3657600"/>
            <a:ext cx="2974680" cy="2822040"/>
            <a:chOff x="4797360" y="3657600"/>
            <a:chExt cx="2974680" cy="2822040"/>
          </a:xfrm>
        </p:grpSpPr>
        <p:sp>
          <p:nvSpPr>
            <p:cNvPr id="302" name=""/>
            <p:cNvSpPr/>
            <p:nvPr/>
          </p:nvSpPr>
          <p:spPr>
            <a:xfrm>
              <a:off x="5180040" y="6019920"/>
              <a:ext cx="25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dicted by the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797360" y="3657600"/>
              <a:ext cx="2974680" cy="2286000"/>
              <a:chOff x="4797360" y="3657600"/>
              <a:chExt cx="2974680" cy="22860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4797360" y="3657600"/>
                <a:ext cx="2974680" cy="2286000"/>
                <a:chOff x="4797360" y="3657600"/>
                <a:chExt cx="2974680" cy="2286000"/>
              </a:xfrm>
            </p:grpSpPr>
            <p:graphicFrame>
              <p:nvGraphicFramePr>
                <p:cNvPr id="305" name=""/>
                <p:cNvGraphicFramePr/>
                <p:nvPr/>
              </p:nvGraphicFramePr>
              <p:xfrm>
                <a:off x="4797360" y="3657600"/>
                <a:ext cx="2974680" cy="22860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30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797360" y="3657600"/>
                          <a:ext cx="2974680" cy="2286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07" name=""/>
                <p:cNvSpPr/>
                <p:nvPr/>
              </p:nvSpPr>
              <p:spPr>
                <a:xfrm flipH="1" flipV="1">
                  <a:off x="6143040" y="4298400"/>
                  <a:ext cx="81360" cy="149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6305760" y="4224240"/>
                  <a:ext cx="81360" cy="14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09" name=""/>
                  <p:cNvSpPr txBox="1"/>
                  <p:nvPr/>
                </p:nvSpPr>
                <p:spPr>
                  <a:xfrm>
                    <a:off x="5638680" y="4191120"/>
                    <a:ext cx="457200" cy="32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[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10" name=""/>
          <p:cNvSpPr/>
          <p:nvPr/>
        </p:nvSpPr>
        <p:spPr>
          <a:xfrm>
            <a:off x="1293480" y="60246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redicted b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ical example of the of the A-B-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447920" y="1371600"/>
            <a:ext cx="6248160" cy="76320"/>
            <a:chOff x="1447920" y="1371600"/>
            <a:chExt cx="6248160" cy="76320"/>
          </a:xfrm>
        </p:grpSpPr>
        <p:sp>
          <p:nvSpPr>
            <p:cNvPr id="313" name=""/>
            <p:cNvSpPr/>
            <p:nvPr/>
          </p:nvSpPr>
          <p:spPr>
            <a:xfrm>
              <a:off x="1447920" y="1371600"/>
              <a:ext cx="6248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447920"/>
              <a:ext cx="57909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743200" cy="26244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7080" y="1828800"/>
            <a:ext cx="4526640" cy="2857680"/>
            <a:chOff x="4267080" y="1828800"/>
            <a:chExt cx="4526640" cy="2857680"/>
          </a:xfrm>
        </p:grpSpPr>
        <p:grpSp>
          <p:nvGrpSpPr>
            <p:cNvPr id="317" name=""/>
            <p:cNvGrpSpPr/>
            <p:nvPr/>
          </p:nvGrpSpPr>
          <p:grpSpPr>
            <a:xfrm>
              <a:off x="4267080" y="1828800"/>
              <a:ext cx="2857680" cy="2857680"/>
              <a:chOff x="4267080" y="1828800"/>
              <a:chExt cx="2857680" cy="2857680"/>
            </a:xfrm>
          </p:grpSpPr>
          <p:pic>
            <p:nvPicPr>
              <p:cNvPr id="3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67080" y="1828800"/>
                <a:ext cx="2857680" cy="218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5524560" y="4229280"/>
                <a:ext cx="571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62200" y="263196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ux 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886200" y="4191120"/>
            <a:ext cx="5109840" cy="1989000"/>
            <a:chOff x="3886200" y="4191120"/>
            <a:chExt cx="5109840" cy="1989000"/>
          </a:xfrm>
        </p:grpSpPr>
        <p:grpSp>
          <p:nvGrpSpPr>
            <p:cNvPr id="322" name=""/>
            <p:cNvGrpSpPr/>
            <p:nvPr/>
          </p:nvGrpSpPr>
          <p:grpSpPr>
            <a:xfrm>
              <a:off x="3886200" y="4191120"/>
              <a:ext cx="3489480" cy="1989000"/>
              <a:chOff x="3886200" y="4191120"/>
              <a:chExt cx="3489480" cy="1989000"/>
            </a:xfrm>
          </p:grpSpPr>
          <p:pic>
            <p:nvPicPr>
              <p:cNvPr id="323" name="" descr=""/>
              <p:cNvPicPr/>
              <p:nvPr/>
            </p:nvPicPr>
            <p:blipFill>
              <a:blip r:embed="rId3"/>
              <a:srcRect l="0" t="17554" r="0" b="5964"/>
              <a:stretch/>
            </p:blipFill>
            <p:spPr>
              <a:xfrm>
                <a:off x="3886200" y="4191120"/>
                <a:ext cx="3489480" cy="19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3987720" y="4501440"/>
                <a:ext cx="338760" cy="108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7085520" y="4545000"/>
              <a:ext cx="191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91080" y="6248520"/>
            <a:ext cx="70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. Wu, J.E. Morral and Y. Wang, submitted to Acta Mater, Jan.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71600" y="4734000"/>
                <a:ext cx="2209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λ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</m:num>
                      <m:den>
                        <m: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CTRA Simulations of Ni-Cr-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usion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70040" y="2057400"/>
          <a:ext cx="39070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040" y="2057400"/>
                    <a:ext cx="3907080" cy="3621240"/>
                  </a:xfrm>
                  <a:prstGeom prst="rect">
                    <a:avLst/>
                  </a:prstGeom>
                  <a:ln w="1908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1295280" y="1752480"/>
            <a:ext cx="6248520" cy="76320"/>
            <a:chOff x="1295280" y="1752480"/>
            <a:chExt cx="6248520" cy="76320"/>
          </a:xfrm>
        </p:grpSpPr>
        <p:sp>
          <p:nvSpPr>
            <p:cNvPr id="332" name=""/>
            <p:cNvSpPr/>
            <p:nvPr/>
          </p:nvSpPr>
          <p:spPr>
            <a:xfrm>
              <a:off x="1295280" y="17524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18288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-380880" y="6172200"/>
            <a:ext cx="998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diffusion paths with ‘horns’…” H. Yang, J.E. Morral, Y. Wang, Acta Mater. 53 (2005) 3775-37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CTRA simulations of Ni-Cr-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usion co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95280" y="1752480"/>
            <a:ext cx="6248520" cy="76320"/>
            <a:chOff x="1295280" y="1752480"/>
            <a:chExt cx="6248520" cy="76320"/>
          </a:xfrm>
        </p:grpSpPr>
        <p:sp>
          <p:nvSpPr>
            <p:cNvPr id="337" name=""/>
            <p:cNvSpPr/>
            <p:nvPr/>
          </p:nvSpPr>
          <p:spPr>
            <a:xfrm>
              <a:off x="1295280" y="17524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3880" y="18288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130400" y="2286000"/>
            <a:ext cx="7251120" cy="2746440"/>
            <a:chOff x="1130400" y="2286000"/>
            <a:chExt cx="7251120" cy="274644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1130400" y="2287800"/>
              <a:ext cx="3868200" cy="27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4512960" y="2286000"/>
              <a:ext cx="3868560" cy="274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2742840" y="598176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s by Dr. Ximiao Pan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63720" y="49942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ion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4160" y="49816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x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erical simulations of Ni-Cr-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ffusion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514600" y="2165400"/>
          <a:ext cx="3471840" cy="17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165400"/>
                    <a:ext cx="347184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1447920" y="4214880"/>
          <a:ext cx="3047760" cy="180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214880"/>
                    <a:ext cx="304776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876920" y="4210200"/>
          <a:ext cx="3124080" cy="180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4210200"/>
                    <a:ext cx="31240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2" name=""/>
          <p:cNvGrpSpPr/>
          <p:nvPr/>
        </p:nvGrpSpPr>
        <p:grpSpPr>
          <a:xfrm>
            <a:off x="1295280" y="1752480"/>
            <a:ext cx="6248520" cy="76320"/>
            <a:chOff x="1295280" y="1752480"/>
            <a:chExt cx="6248520" cy="76320"/>
          </a:xfrm>
        </p:grpSpPr>
        <p:sp>
          <p:nvSpPr>
            <p:cNvPr id="353" name=""/>
            <p:cNvSpPr/>
            <p:nvPr/>
          </p:nvSpPr>
          <p:spPr>
            <a:xfrm>
              <a:off x="1295280" y="17524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3880" y="18288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3200040" y="6262560"/>
            <a:ext cx="37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s by Dr. Ximiao Pan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model”simulations of Ni-Cr-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ffusion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514600" y="2286000"/>
            <a:ext cx="4443480" cy="3809880"/>
            <a:chOff x="2514600" y="2286000"/>
            <a:chExt cx="4443480" cy="380988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2514600" y="2362320"/>
              <a:ext cx="4114800" cy="36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76840" y="2286000"/>
              <a:ext cx="381240" cy="380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295280" y="1752480"/>
            <a:ext cx="6248520" cy="76320"/>
            <a:chOff x="1295280" y="1752480"/>
            <a:chExt cx="6248520" cy="76320"/>
          </a:xfrm>
        </p:grpSpPr>
        <p:sp>
          <p:nvSpPr>
            <p:cNvPr id="361" name=""/>
            <p:cNvSpPr/>
            <p:nvPr/>
          </p:nvSpPr>
          <p:spPr>
            <a:xfrm>
              <a:off x="1295280" y="17524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18288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938680" y="621036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ulations by Henrik Larsson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ingle horns are predicted by the diffusion equation for multiphase diffusion couples if the diffusivity varies with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 is that no horns will form if the diffusivity doesn’t vary at x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horns occur in DICTRA simulations, but their origin is unknow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143000" y="1523880"/>
            <a:ext cx="6248520" cy="76320"/>
            <a:chOff x="1143000" y="1523880"/>
            <a:chExt cx="6248520" cy="76320"/>
          </a:xfrm>
        </p:grpSpPr>
        <p:sp>
          <p:nvSpPr>
            <p:cNvPr id="367" name=""/>
            <p:cNvSpPr/>
            <p:nvPr/>
          </p:nvSpPr>
          <p:spPr>
            <a:xfrm>
              <a:off x="1143000" y="15238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1600" y="16002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52352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n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ce of ho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inal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tical basis for single Ho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al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ns in Ni-Cr-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1523880"/>
            <a:ext cx="6248520" cy="76320"/>
            <a:chOff x="1143000" y="1523880"/>
            <a:chExt cx="6248520" cy="76320"/>
          </a:xfrm>
        </p:grpSpPr>
        <p:sp>
          <p:nvSpPr>
            <p:cNvPr id="52" name=""/>
            <p:cNvSpPr/>
            <p:nvPr/>
          </p:nvSpPr>
          <p:spPr>
            <a:xfrm>
              <a:off x="1143000" y="15238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16002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172120" cy="36734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737160" y="838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n defin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p deviations (singularities) in  zigzag diffusion pa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9680" y="5859360"/>
            <a:ext cx="965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8760" y="2286000"/>
            <a:ext cx="4477680" cy="3797640"/>
            <a:chOff x="608760" y="2286000"/>
            <a:chExt cx="4477680" cy="3797640"/>
          </a:xfrm>
        </p:grpSpPr>
        <p:sp>
          <p:nvSpPr>
            <p:cNvPr id="57" name=""/>
            <p:cNvSpPr/>
            <p:nvPr/>
          </p:nvSpPr>
          <p:spPr>
            <a:xfrm>
              <a:off x="1736640" y="2397240"/>
              <a:ext cx="3349800" cy="3085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93800" y="352260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93800" y="3422880"/>
              <a:ext cx="33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93800" y="331164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93800" y="321480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3800" y="3113280"/>
              <a:ext cx="33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3800" y="3002040"/>
              <a:ext cx="33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3800" y="29052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3800" y="27939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3800" y="26942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3800" y="25923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93800" y="24861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3800" y="238752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84440" y="3422880"/>
              <a:ext cx="428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84440" y="29052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84440" y="2387520"/>
              <a:ext cx="42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22240" y="5486400"/>
              <a:ext cx="3008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227400" y="548640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379680" y="5486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527280" y="548640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678120" y="548640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83220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984480" y="5486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2272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27356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42764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575240" y="548640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726080" y="5486400"/>
              <a:ext cx="288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227400" y="5486040"/>
              <a:ext cx="32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984480" y="548604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726080" y="5486040"/>
              <a:ext cx="28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6120" y="3326040"/>
              <a:ext cx="2286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6480" y="3326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6120" y="2805120"/>
              <a:ext cx="228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6480" y="28051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6120" y="2286000"/>
              <a:ext cx="228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46480" y="228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5597640"/>
              <a:ext cx="2300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1960" y="559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97240" y="5597640"/>
              <a:ext cx="2314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97600" y="559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39920" y="5597640"/>
              <a:ext cx="2304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0280" y="559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5597640"/>
              <a:ext cx="2304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95920" y="559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5080" y="5597640"/>
              <a:ext cx="223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0760" y="55976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06560" y="5900760"/>
              <a:ext cx="61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 (at %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8760" y="354816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80560" y="3530520"/>
              <a:ext cx="41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t %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94040" y="2387520"/>
              <a:ext cx="81576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00480" y="4856400"/>
              <a:ext cx="239760" cy="639720"/>
            </a:xfrm>
            <a:custGeom>
              <a:avLst/>
              <a:gdLst/>
              <a:ahLst/>
              <a:rect l="l" t="t" r="r" b="b"/>
              <a:pathLst>
                <a:path w="106" h="276">
                  <a:moveTo>
                    <a:pt x="0" y="0"/>
                  </a:moveTo>
                  <a:lnTo>
                    <a:pt x="0" y="50"/>
                  </a:lnTo>
                  <a:lnTo>
                    <a:pt x="4" y="94"/>
                  </a:lnTo>
                  <a:lnTo>
                    <a:pt x="10" y="109"/>
                  </a:lnTo>
                  <a:lnTo>
                    <a:pt x="10" y="123"/>
                  </a:lnTo>
                  <a:lnTo>
                    <a:pt x="20" y="153"/>
                  </a:lnTo>
                  <a:lnTo>
                    <a:pt x="29" y="176"/>
                  </a:lnTo>
                  <a:lnTo>
                    <a:pt x="45" y="198"/>
                  </a:lnTo>
                  <a:lnTo>
                    <a:pt x="54" y="221"/>
                  </a:lnTo>
                  <a:lnTo>
                    <a:pt x="66" y="236"/>
                  </a:lnTo>
                  <a:lnTo>
                    <a:pt x="75" y="249"/>
                  </a:lnTo>
                  <a:lnTo>
                    <a:pt x="85" y="263"/>
                  </a:lnTo>
                  <a:lnTo>
                    <a:pt x="106" y="2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2400" y="4397400"/>
              <a:ext cx="47808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9800" y="4394160"/>
              <a:ext cx="17686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0480" y="4851360"/>
              <a:ext cx="127800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95800" y="4834080"/>
              <a:ext cx="861840" cy="666720"/>
            </a:xfrm>
            <a:custGeom>
              <a:avLst/>
              <a:gdLst/>
              <a:ahLst/>
              <a:rect l="l" t="t" r="r" b="b"/>
              <a:pathLst>
                <a:path w="381" h="288">
                  <a:moveTo>
                    <a:pt x="0" y="0"/>
                  </a:moveTo>
                  <a:lnTo>
                    <a:pt x="64" y="56"/>
                  </a:lnTo>
                  <a:lnTo>
                    <a:pt x="125" y="106"/>
                  </a:lnTo>
                  <a:lnTo>
                    <a:pt x="189" y="156"/>
                  </a:lnTo>
                  <a:lnTo>
                    <a:pt x="250" y="200"/>
                  </a:lnTo>
                  <a:lnTo>
                    <a:pt x="317" y="246"/>
                  </a:lnTo>
                  <a:lnTo>
                    <a:pt x="381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578120" y="3835440"/>
              <a:ext cx="145800" cy="10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2520" y="4915080"/>
              <a:ext cx="138240" cy="23328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0" y="0"/>
                  </a:moveTo>
                  <a:lnTo>
                    <a:pt x="36" y="57"/>
                  </a:lnTo>
                  <a:lnTo>
                    <a:pt x="50" y="84"/>
                  </a:lnTo>
                  <a:lnTo>
                    <a:pt x="61" y="10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9240" y="5060880"/>
              <a:ext cx="345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505620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7760" y="5118120"/>
              <a:ext cx="3967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7040" y="5113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8120" y="34466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2520" y="4611600"/>
              <a:ext cx="3175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02320" y="460692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93800" y="54864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3800" y="3828960"/>
              <a:ext cx="33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3800" y="373068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3800" y="361944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84440" y="54864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722240" y="5486400"/>
              <a:ext cx="50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876320" y="548640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02896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179440" y="548640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33208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481120" y="5486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24040" y="5486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770200" y="5486400"/>
              <a:ext cx="468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922480" y="54864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76560" y="54864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722240" y="5486040"/>
              <a:ext cx="50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481120" y="548604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5389560"/>
              <a:ext cx="1476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3880" y="5389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6120" y="3846600"/>
              <a:ext cx="228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6480" y="38466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11360" y="4397400"/>
              <a:ext cx="311040" cy="1085760"/>
            </a:xfrm>
            <a:custGeom>
              <a:avLst/>
              <a:gdLst/>
              <a:ahLst/>
              <a:rect l="l" t="t" r="r" b="b"/>
              <a:pathLst>
                <a:path w="138" h="469">
                  <a:moveTo>
                    <a:pt x="138" y="0"/>
                  </a:moveTo>
                  <a:lnTo>
                    <a:pt x="111" y="52"/>
                  </a:lnTo>
                  <a:lnTo>
                    <a:pt x="86" y="107"/>
                  </a:lnTo>
                  <a:lnTo>
                    <a:pt x="63" y="169"/>
                  </a:lnTo>
                  <a:lnTo>
                    <a:pt x="40" y="232"/>
                  </a:lnTo>
                  <a:lnTo>
                    <a:pt x="33" y="269"/>
                  </a:lnTo>
                  <a:lnTo>
                    <a:pt x="23" y="311"/>
                  </a:lnTo>
                  <a:lnTo>
                    <a:pt x="19" y="353"/>
                  </a:lnTo>
                  <a:lnTo>
                    <a:pt x="13" y="386"/>
                  </a:lnTo>
                  <a:lnTo>
                    <a:pt x="10" y="413"/>
                  </a:lnTo>
                  <a:lnTo>
                    <a:pt x="6" y="432"/>
                  </a:lnTo>
                  <a:lnTo>
                    <a:pt x="0" y="46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3760" y="4073760"/>
              <a:ext cx="345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3800" y="53895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93800" y="5278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93800" y="517680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3800" y="507852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93800" y="496728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3800" y="4869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93800" y="475632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3800" y="465948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93800" y="4557960"/>
              <a:ext cx="334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3800" y="44514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93800" y="4349880"/>
              <a:ext cx="33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93800" y="4253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93800" y="4141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93800" y="40417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93800" y="39308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4440" y="4967280"/>
              <a:ext cx="42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84440" y="44514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84440" y="3940200"/>
              <a:ext cx="42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4869000"/>
              <a:ext cx="147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4869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6120" y="4349880"/>
              <a:ext cx="228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6480" y="4354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7400" y="2540160"/>
              <a:ext cx="26668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352680" y="2895480"/>
            <a:ext cx="438120" cy="990360"/>
            <a:chOff x="3352680" y="2895480"/>
            <a:chExt cx="438120" cy="990360"/>
          </a:xfrm>
        </p:grpSpPr>
        <p:sp>
          <p:nvSpPr>
            <p:cNvPr id="169" name=""/>
            <p:cNvSpPr/>
            <p:nvPr/>
          </p:nvSpPr>
          <p:spPr>
            <a:xfrm>
              <a:off x="3352680" y="3774960"/>
              <a:ext cx="109440" cy="1108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1000" y="2895480"/>
              <a:ext cx="109800" cy="1108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09480" y="62928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pfe, William D. and J. E. Morral. Acta Metall. et Mater. 42 (1994) 3887-389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914400"/>
            <a:ext cx="6248520" cy="76320"/>
            <a:chOff x="1295280" y="914400"/>
            <a:chExt cx="6248520" cy="76320"/>
          </a:xfrm>
        </p:grpSpPr>
        <p:sp>
          <p:nvSpPr>
            <p:cNvPr id="173" name=""/>
            <p:cNvSpPr/>
            <p:nvPr/>
          </p:nvSpPr>
          <p:spPr>
            <a:xfrm>
              <a:off x="1295280" y="91440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23880" y="99072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7360" y="2914560"/>
            <a:ext cx="3969360" cy="1202760"/>
            <a:chOff x="297360" y="2914560"/>
            <a:chExt cx="3969360" cy="1202760"/>
          </a:xfrm>
        </p:grpSpPr>
        <p:grpSp>
          <p:nvGrpSpPr>
            <p:cNvPr id="176" name=""/>
            <p:cNvGrpSpPr/>
            <p:nvPr/>
          </p:nvGrpSpPr>
          <p:grpSpPr>
            <a:xfrm>
              <a:off x="2714760" y="2914560"/>
              <a:ext cx="1551960" cy="895320"/>
              <a:chOff x="2714760" y="2914560"/>
              <a:chExt cx="1551960" cy="895320"/>
            </a:xfrm>
          </p:grpSpPr>
          <p:sp>
            <p:nvSpPr>
              <p:cNvPr id="177" name=""/>
              <p:cNvSpPr/>
              <p:nvPr/>
            </p:nvSpPr>
            <p:spPr>
              <a:xfrm>
                <a:off x="2714760" y="2914560"/>
                <a:ext cx="657000" cy="861840"/>
              </a:xfrm>
              <a:custGeom>
                <a:avLst/>
                <a:gdLst/>
                <a:ahLst/>
                <a:rect l="l" t="t" r="r" b="b"/>
                <a:pathLst>
                  <a:path w="414" h="543">
                    <a:moveTo>
                      <a:pt x="414" y="543"/>
                    </a:moveTo>
                    <a:cubicBezTo>
                      <a:pt x="396" y="499"/>
                      <a:pt x="342" y="344"/>
                      <a:pt x="306" y="276"/>
                    </a:cubicBezTo>
                    <a:cubicBezTo>
                      <a:pt x="270" y="208"/>
                      <a:pt x="246" y="178"/>
                      <a:pt x="195" y="132"/>
                    </a:cubicBezTo>
                    <a:cubicBezTo>
                      <a:pt x="144" y="86"/>
                      <a:pt x="41" y="27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38240" y="3004920"/>
                <a:ext cx="528480" cy="804960"/>
              </a:xfrm>
              <a:custGeom>
                <a:avLst/>
                <a:gdLst/>
                <a:ahLst/>
                <a:rect l="l" t="t" r="r" b="b"/>
                <a:pathLst>
                  <a:path w="333" h="507">
                    <a:moveTo>
                      <a:pt x="0" y="0"/>
                    </a:moveTo>
                    <a:cubicBezTo>
                      <a:pt x="4" y="18"/>
                      <a:pt x="3" y="59"/>
                      <a:pt x="24" y="114"/>
                    </a:cubicBezTo>
                    <a:cubicBezTo>
                      <a:pt x="45" y="169"/>
                      <a:pt x="75" y="265"/>
                      <a:pt x="126" y="330"/>
                    </a:cubicBezTo>
                    <a:cubicBezTo>
                      <a:pt x="177" y="395"/>
                      <a:pt x="290" y="470"/>
                      <a:pt x="333" y="507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97360" y="3352680"/>
              <a:ext cx="2734920" cy="76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horns on a diffusion 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(variable [D])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17200" y="2403360"/>
            <a:ext cx="3913200" cy="1406520"/>
            <a:chOff x="2617200" y="2403360"/>
            <a:chExt cx="3913200" cy="1406520"/>
          </a:xfrm>
        </p:grpSpPr>
        <p:grpSp>
          <p:nvGrpSpPr>
            <p:cNvPr id="181" name=""/>
            <p:cNvGrpSpPr/>
            <p:nvPr/>
          </p:nvGrpSpPr>
          <p:grpSpPr>
            <a:xfrm>
              <a:off x="3160800" y="2936520"/>
              <a:ext cx="704880" cy="873360"/>
              <a:chOff x="3160800" y="2936520"/>
              <a:chExt cx="704880" cy="873360"/>
            </a:xfrm>
          </p:grpSpPr>
          <p:sp>
            <p:nvSpPr>
              <p:cNvPr id="182" name=""/>
              <p:cNvSpPr/>
              <p:nvPr/>
            </p:nvSpPr>
            <p:spPr>
              <a:xfrm>
                <a:off x="3179880" y="3165480"/>
                <a:ext cx="685800" cy="380880"/>
              </a:xfrm>
              <a:prstGeom prst="line">
                <a:avLst/>
              </a:prstGeom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160800" y="3135240"/>
                <a:ext cx="222480" cy="67464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3713040" y="2936520"/>
                <a:ext cx="152280" cy="609480"/>
              </a:xfrm>
              <a:prstGeom prst="line">
                <a:avLst/>
              </a:prstGeom>
              <a:ln w="1908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617200" y="2403360"/>
              <a:ext cx="391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Times New Roman"/>
                </a:rPr>
                <a:t>zigzag diffusion path (constant [D])</a:t>
              </a:r>
              <a:r>
                <a:rPr b="0" lang="en-US" sz="24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3629160"/>
            <a:ext cx="312408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19360" y="4210200"/>
          <a:ext cx="390528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9360" y="4210200"/>
                    <a:ext cx="3905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590920" y="2590920"/>
          <a:ext cx="391464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590920"/>
                    <a:ext cx="3914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Horns are important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can lead to the formation of brittle intermetallic compounds at bo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03320" y="59022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19680" y="5257800"/>
            <a:ext cx="652320" cy="851040"/>
          </a:xfrm>
          <a:custGeom>
            <a:avLst/>
            <a:gdLst/>
            <a:ahLst/>
            <a:rect l="l" t="t" r="r" b="b"/>
            <a:pathLst>
              <a:path w="411" h="536">
                <a:moveTo>
                  <a:pt x="0" y="536"/>
                </a:moveTo>
                <a:cubicBezTo>
                  <a:pt x="57" y="508"/>
                  <a:pt x="277" y="457"/>
                  <a:pt x="344" y="368"/>
                </a:cubicBezTo>
                <a:cubicBezTo>
                  <a:pt x="411" y="279"/>
                  <a:pt x="388" y="77"/>
                  <a:pt x="400" y="0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73360" y="990360"/>
            <a:ext cx="5924520" cy="78120"/>
            <a:chOff x="1773360" y="990360"/>
            <a:chExt cx="5924520" cy="78120"/>
          </a:xfrm>
        </p:grpSpPr>
        <p:sp>
          <p:nvSpPr>
            <p:cNvPr id="195" name=""/>
            <p:cNvSpPr/>
            <p:nvPr/>
          </p:nvSpPr>
          <p:spPr>
            <a:xfrm flipV="1">
              <a:off x="1773360" y="990360"/>
              <a:ext cx="592452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7400" y="1068480"/>
              <a:ext cx="533412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19320" y="1521000"/>
            <a:ext cx="6953040" cy="4651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63160" y="6318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4 Phase Transformatio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19320" y="1143000"/>
            <a:ext cx="6248160" cy="76320"/>
            <a:chOff x="1219320" y="1143000"/>
            <a:chExt cx="6248160" cy="76320"/>
          </a:xfrm>
        </p:grpSpPr>
        <p:sp>
          <p:nvSpPr>
            <p:cNvPr id="200" name=""/>
            <p:cNvSpPr/>
            <p:nvPr/>
          </p:nvSpPr>
          <p:spPr>
            <a:xfrm>
              <a:off x="1219320" y="1143000"/>
              <a:ext cx="6248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560" y="1219320"/>
              <a:ext cx="57909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52480" y="1905120"/>
            <a:ext cx="4343040" cy="4190400"/>
            <a:chOff x="1752480" y="1905120"/>
            <a:chExt cx="4343040" cy="419040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2231640" y="2001240"/>
              <a:ext cx="3516120" cy="40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400720" y="2001240"/>
              <a:ext cx="694800" cy="36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480" y="2001240"/>
              <a:ext cx="694800" cy="366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99520" y="5378040"/>
              <a:ext cx="3648240" cy="67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12760" y="1905120"/>
              <a:ext cx="364824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54280" y="6172200"/>
            <a:ext cx="292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43000" y="1676520"/>
            <a:ext cx="6248520" cy="75960"/>
            <a:chOff x="1143000" y="1676520"/>
            <a:chExt cx="6248520" cy="75960"/>
          </a:xfrm>
        </p:grpSpPr>
        <p:sp>
          <p:nvSpPr>
            <p:cNvPr id="211" name=""/>
            <p:cNvSpPr/>
            <p:nvPr/>
          </p:nvSpPr>
          <p:spPr>
            <a:xfrm>
              <a:off x="1143000" y="167652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175248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62120" y="5317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CTRA Finite Difference Simulation of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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usion Co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28600" y="5805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ers Engstrom, J.E. Morral and John Ågren. Acta Mater. 45 (1997) 1189-11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nal paper on Ho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772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295280" y="1600200"/>
            <a:ext cx="6248520" cy="76320"/>
            <a:chOff x="1295280" y="1600200"/>
            <a:chExt cx="6248520" cy="76320"/>
          </a:xfrm>
        </p:grpSpPr>
        <p:sp>
          <p:nvSpPr>
            <p:cNvPr id="218" name=""/>
            <p:cNvSpPr/>
            <p:nvPr/>
          </p:nvSpPr>
          <p:spPr>
            <a:xfrm>
              <a:off x="1295280" y="160020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167652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s of Ho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500280" cy="32241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1295280" y="1600200"/>
            <a:ext cx="6248520" cy="76320"/>
            <a:chOff x="1295280" y="1600200"/>
            <a:chExt cx="6248520" cy="76320"/>
          </a:xfrm>
        </p:grpSpPr>
        <p:sp>
          <p:nvSpPr>
            <p:cNvPr id="223" name=""/>
            <p:cNvSpPr/>
            <p:nvPr/>
          </p:nvSpPr>
          <p:spPr>
            <a:xfrm>
              <a:off x="1295280" y="160020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167652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3505320" cy="3225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981080" y="545148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Hor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ICTRA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71720" y="5452920"/>
            <a:ext cx="311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Hor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nalytical, Perturb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metho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iation from the linear zigzag pa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isn’t a h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96252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295280" y="1752480"/>
            <a:ext cx="6248520" cy="76320"/>
            <a:chOff x="1295280" y="1752480"/>
            <a:chExt cx="6248520" cy="76320"/>
          </a:xfrm>
        </p:grpSpPr>
        <p:sp>
          <p:nvSpPr>
            <p:cNvPr id="231" name=""/>
            <p:cNvSpPr/>
            <p:nvPr/>
          </p:nvSpPr>
          <p:spPr>
            <a:xfrm>
              <a:off x="1295280" y="1752480"/>
              <a:ext cx="624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3880" y="1828800"/>
              <a:ext cx="5791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123000" y="586728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al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Numerical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19:05:48Z</dcterms:created>
  <dc:creator>John Morral</dc:creator>
  <dc:description/>
  <dc:language>en-US</dc:language>
  <cp:lastModifiedBy>carrie</cp:lastModifiedBy>
  <cp:lastPrinted>2002-02-16T17:40:44Z</cp:lastPrinted>
  <dcterms:modified xsi:type="dcterms:W3CDTF">2006-04-05T18:26:05Z</dcterms:modified>
  <cp:revision>49</cp:revision>
  <dc:subject/>
  <dc:title>Microstructures Resulting from MCrAlY Coating/Superalloy Interdiffusion</dc:title>
</cp:coreProperties>
</file>